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CEA-8AEB-428E-AFC6-C33D57CD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E70-47E3-49D7-AFB9-D8B4D96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155-416B-4675-B358-4C5122EB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12E-C5C5-4341-9E4A-3038B3B9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4732-61A9-4AE3-8AEB-351FB1E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0FC1-C2E5-4161-A0B5-0CEF4AB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D9B26-C2BC-46B8-B858-9F44A20A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ED2E8-B0EF-4F65-A714-5AE55DF9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55281-2805-43BF-A273-F79C424C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294D5-C8CB-4C04-B085-1663F41F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D622-6F2E-4551-87D7-19FE5CDB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997-3065-4425-9BC2-0BDCBA70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88814-48AB-4D77-97E4-20EDB19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24D0A-0183-4E77-8441-3E63E44A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97D2F-1E9F-4E38-9130-40395EF8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E3BEC-9966-431C-B25A-43A23903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2B5DF-6581-447A-97CC-27B64E56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BB1-DE00-469B-8520-572B531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CBE-61E3-408A-854E-346C4050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B69-9E18-40CA-B068-30053FE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300-ABA8-4EA1-AFFB-3ED7C549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D3A-BDC5-4AC0-BFAE-E6842E8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BEBE-C4E3-4BF4-8604-CB0F30D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BAF-EC74-4A1F-B5E1-FE34D36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E39D-693C-42DE-BE32-0FAC88458C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Unicode MS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15D3-1031-4440-A297-73916994E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 Unicode MS"/>
              </a:rPr>
              <a:t>Joshua: The New Leader</a:t>
            </a:r>
            <a:endParaRPr b="0" lang="en-US" sz="5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Quarter 3, Lesson 3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. 1:1 – 6:27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In The Days of the Judges”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(Pages 18-25)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28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0120" y="2514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Satellite View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977240" cy="6091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895480" y="609480"/>
            <a:ext cx="1623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now Cap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421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4495680"/>
            <a:ext cx="4076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 - City of Pal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410080" y="3295800"/>
            <a:ext cx="2381400" cy="356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838080" y="3733920"/>
            <a:ext cx="1381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238880" cy="4310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133720" y="0"/>
            <a:ext cx="44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Israelites March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round Jericho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4788000" cy="567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38680" y="83808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t Concept of How The Walls Fell Down A Sloping Rock Foundation, Considering Present Remai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4800600" cy="6856560"/>
            <a:chOff x="0" y="0"/>
            <a:chExt cx="4800600" cy="6856560"/>
          </a:xfrm>
        </p:grpSpPr>
        <p:pic>
          <p:nvPicPr>
            <p:cNvPr id="125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44840" y="62809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0520" y="63460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3428640" y="3124080"/>
            <a:ext cx="20574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3343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ossing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ord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505320"/>
            <a:ext cx="3352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ing the Jordan Ri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:1-1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nes for the Monument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Ark moves into Cana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0-13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ument at Gilg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:19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52280"/>
            <a:ext cx="3505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harge to Joshua - 1:1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shua’s Command to the People - 1:10-18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ying Jericho: Rahab’s Help - 2:1-2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3886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Jericho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41911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Gilgal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4800600" cy="6877080"/>
            <a:chOff x="0" y="0"/>
            <a:chExt cx="4800600" cy="687708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443040" y="6301440"/>
              <a:ext cx="1354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0520" y="6366600"/>
              <a:ext cx="213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4952880" y="457200"/>
            <a:ext cx="4038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vents At Gilga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52680" y="1219320"/>
            <a:ext cx="3276720" cy="2819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52480" y="3048120"/>
            <a:ext cx="121932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581280"/>
            <a:ext cx="6858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124080"/>
            <a:ext cx="37335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ngs of the Amorites and Canaanites feared Israel – 5: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 circumcision – 5:2-9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over kept &amp; manna ceases – 5:10-12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Futura XBlk B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their new leader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spied out the land (Jericho)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crossed the Jordan River on dry la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made the memorials for future generation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ncamped at Gilgal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is now equal to Moses in their sigh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 men were circumcised to roll away the reproach of Egypt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 Unicode MS"/>
              </a:rPr>
              <a:t>What has happened…</a:t>
            </a:r>
            <a:endParaRPr b="0" lang="en-US" sz="4400" spc="-1" strike="noStrike">
              <a:solidFill>
                <a:srgbClr val="e3e3ff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observed the Passover to celebrate the 40 years (to the night) since the firstborn of Israel were saved. 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have eaten of the produce of the land of Canaan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God stopped the manna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Joshua was standing on holy ground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ey are now in the mist of their enemies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4800600" cy="6842160"/>
            <a:chOff x="0" y="0"/>
            <a:chExt cx="4800600" cy="6842160"/>
          </a:xfrm>
        </p:grpSpPr>
        <p:pic>
          <p:nvPicPr>
            <p:cNvPr id="152" name="" descr=""/>
            <p:cNvPicPr/>
            <p:nvPr/>
          </p:nvPicPr>
          <p:blipFill>
            <a:blip r:embed="rId1">
              <a:lum bright="-6000"/>
            </a:blip>
            <a:srcRect l="1058" t="18878" r="9384" b="3960"/>
            <a:stretch/>
          </p:blipFill>
          <p:spPr>
            <a:xfrm>
              <a:off x="0" y="0"/>
              <a:ext cx="4800600" cy="65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444840" y="6266520"/>
              <a:ext cx="1352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NASA PHOTO</a:t>
              </a:r>
              <a:endParaRPr b="0" lang="en-US" sz="16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520" y="6331680"/>
              <a:ext cx="214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Unicode MS"/>
                </a:rPr>
                <a:t>©  EBibleTeacher.com  </a:t>
              </a:r>
              <a:endParaRPr b="0" lang="en-US" sz="10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55" name=""/>
          <p:cNvSpPr txBox="1"/>
          <p:nvPr/>
        </p:nvSpPr>
        <p:spPr>
          <a:xfrm>
            <a:off x="1676520" y="3200400"/>
            <a:ext cx="16239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Jerich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581280"/>
            <a:ext cx="4572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62520" y="304920"/>
            <a:ext cx="49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quest of th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ntral Hill Count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98108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ince of Jehovah’s Army – 5:13 – 6: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ttle for Jericho – 6:6-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352680"/>
            <a:ext cx="30477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– 6:1-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arch – 6:3-21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hab saved – 6:22-25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e on the Rebuilder – 6:26,27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f: 1 Kgs.16:34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809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XBlk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90920" y="2590920"/>
            <a:ext cx="3962160" cy="1676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7120" y="2438280"/>
            <a:ext cx="138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richo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2840" y="1676520"/>
            <a:ext cx="297180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0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ilgal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57800" y="1066680"/>
            <a:ext cx="3352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e Elevation Levels,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Jordan Valley,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Jericho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227160"/>
            <a:ext cx="71629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7:00:00Z</dcterms:created>
  <dc:creator>Terry W. Benton</dc:creator>
  <dc:description/>
  <dc:language>en-US</dc:language>
  <cp:lastModifiedBy>Frank D Vines</cp:lastModifiedBy>
  <dcterms:modified xsi:type="dcterms:W3CDTF">2005-01-09T14:15:56Z</dcterms:modified>
  <cp:revision>15</cp:revision>
  <dc:subject/>
  <dc:title>Joshua: The New Leader</dc:title>
</cp:coreProperties>
</file>